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F7CC-829B-4AD0-A382-29CF6D657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23B0-0ECF-4640-89CD-C2889508B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BD7-D495-4409-95C0-C6ED17C0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CCB1-612E-4B6D-AE04-7DECE663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AD67-0202-4628-A17E-98F5CE72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A6C-536D-4B7C-BB6C-3501ABE7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793F-ADE2-487A-9AA1-304D32EF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0651-9B39-4496-8ADB-FE4D0C63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132D-2FB7-48ED-A207-ECE3A746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725A-E96E-42B6-B6D9-604BFAF5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B7F8-2B72-46F2-8AA7-BDA4A438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92B6-C0EB-4639-9841-7AD8FE0F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C290-EDCD-4D86-BC11-6A35DC3D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10A-11A2-4C29-B3AD-141A2977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A5FF-A6CF-4F0C-9B8A-75215FFE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EE4B-C4FC-43B6-8992-AEB7D124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F103-3FC2-468A-9227-8BC98F95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092F-B285-4DC1-A5DE-BA6F32AA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1D89-9E29-42C1-A263-67E34384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ACCA2-484F-4FCE-80CA-23EBE52B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7CCC9-4170-4C1F-ABE0-898F9DFF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187AD-2A67-46B8-A3A9-6F24EF6A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F5556-2578-45B6-8B74-535CE530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EB397-3D51-44F5-B775-E9E86845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892B-A54B-440A-9489-3DA26836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DB9D3-3DFD-4D46-88BE-891ED240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158F0-1C09-4D96-BC0E-F6AAB542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CD2AE-9CEC-4305-863C-9F81E701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D053C-C5AC-4385-9ED7-A4BE0EFC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0ADA0-21AA-470B-B83D-5885A041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2278D-BF1B-4878-B387-B326378B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BC983-34BC-4348-B8E9-330B482B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02C5A-6D52-4099-9000-2A0FF228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3ABB5-61E5-45FD-BC33-58336055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05303-8FB9-4D90-9CB3-CD2EBF70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D3B-22ED-4ED0-BA9C-026F68EC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F3E90-F2B6-4091-AEE8-B07315DA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203B8-2738-4B6F-A3B6-BCF61223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9EAC7-8EBA-48F4-A508-AAA1A3ED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4AADA-26FB-4AF0-955F-DD293B8B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A797D-4348-47D3-A899-EC745362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12CDD-4970-426B-A6DD-F3C7A088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F376E-66C3-4E35-A290-51E62681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48116-6D14-4C6C-9F18-43149096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7F43F-1C0F-4978-B4B3-D5D15A64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BF3-CF4E-4364-A4F3-0F961D15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8C40-95EE-4A41-869F-D08FF948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143-59CB-4C37-94E6-D9E5527C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E36-3AAA-4B65-B56C-0CDA744D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D20-D4E8-46E6-8AA0-0B03512B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3D73-A91D-457D-9A24-70440C5B663A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4208-AB7E-4F40-8858-267434503C2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0561-08DD-498D-9754-A16064CBCF01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390A-01C0-4008-A66D-85054E4EA3AA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D0EA-30B2-44E9-8A27-EA28676EC4DF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6807-DD69-4431-A3BC-6663DB7433A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8823-E4BD-4CF6-B20F-5FCF20582B77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5AC9-5406-4B35-BB3A-DED791CA9511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South Dakota AFNR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Academic Integration Activities: Example #8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042560" y="2323800"/>
            <a:ext cx="76438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dentify what we know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The scale we want to go to is ½ inch is equal to one foot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We know the bunk is 8 feet long and 2 ½ feet wide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We want to find out how long an 8 foot and a 2 ½ foot line would be on a ½ inch = 1 foot scal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his is a two-part problem because we need to figure how long two different lines would be, the 8 foot and the 2 ½ foot line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733320" y="2193840"/>
          <a:ext cx="7696440" cy="3927600"/>
        </p:xfrm>
        <a:graphic>
          <a:graphicData uri="http://schemas.openxmlformats.org/drawingml/2006/table">
            <a:tbl>
              <a:tblPr/>
              <a:tblGrid>
                <a:gridCol w="2133720"/>
                <a:gridCol w="2666880"/>
                <a:gridCol w="2895840"/>
              </a:tblGrid>
              <a:tr h="424080">
                <a:tc>
                  <a:txBody>
                    <a:bodyPr lIns="87480" rIns="87480" tIns="0" bIns="0" anchor="t">
                      <a:noAutofit/>
                    </a:bodyPr>
                    <a:p>
                      <a:pPr marL="171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or the 8 foot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or the 2 ½ foot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01640">
                <a:tc>
                  <a:txBody>
                    <a:bodyPr lIns="87480" rIns="874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et up the ratio: a/b = c/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foot/½ inch = 8 feet/x in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foot/½ inch = 2 ½ foot/x in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2960">
                <a:tc>
                  <a:txBody>
                    <a:bodyPr lIns="87480" rIns="87480" tIns="0" bIns="0" anchor="ctr">
                      <a:noAutofit/>
                    </a:bodyPr>
                    <a:p>
                      <a:pPr marL="4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ross Multip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foot            8 fe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½ inch          x inches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foot           2 ½ fo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½ inch          x inches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50640">
                <a:tc>
                  <a:txBody>
                    <a:bodyPr lIns="87480" rIns="874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o 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x = 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x = 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981000">
                <a:tc>
                  <a:txBody>
                    <a:bodyPr lIns="87480" rIns="874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et x al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x     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       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x     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        1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51000">
                <a:tc>
                  <a:txBody>
                    <a:bodyPr lIns="87480" rIns="874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x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= 4 in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= 1.25 in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76280">
                <a:tc>
                  <a:txBody>
                    <a:bodyPr lIns="87480" rIns="874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ns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 8 foot length is 4 in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 2 ½ foot width is 1.25 in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  <p:sp>
        <p:nvSpPr>
          <p:cNvPr id="371" name="Rectangle 11"/>
          <p:cNvSpPr/>
          <p:nvPr/>
        </p:nvSpPr>
        <p:spPr>
          <a:xfrm>
            <a:off x="4128840" y="3448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Straight Arrow Connector 12"/>
          <p:cNvCxnSpPr/>
          <p:nvPr/>
        </p:nvCxnSpPr>
        <p:spPr>
          <a:xfrm>
            <a:off x="4098960" y="3439800"/>
            <a:ext cx="364320" cy="34668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73" name="Straight Arrow Connector 13"/>
          <p:cNvCxnSpPr/>
          <p:nvPr/>
        </p:nvCxnSpPr>
        <p:spPr>
          <a:xfrm flipH="1">
            <a:off x="4101480" y="3425760"/>
            <a:ext cx="346680" cy="364320"/>
          </a:xfrm>
          <a:prstGeom prst="straightConnector1">
            <a:avLst/>
          </a:prstGeom>
          <a:ln w="9360">
            <a:solidFill>
              <a:srgbClr val="94c600"/>
            </a:solidFill>
            <a:miter/>
            <a:headEnd len="med" type="arrow" w="med"/>
          </a:ln>
        </p:spPr>
      </p:cxnSp>
      <p:sp>
        <p:nvSpPr>
          <p:cNvPr id="374" name="Rectangle 14"/>
          <p:cNvSpPr/>
          <p:nvPr/>
        </p:nvSpPr>
        <p:spPr>
          <a:xfrm>
            <a:off x="6819480" y="3440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Straight Arrow Connector 15"/>
          <p:cNvCxnSpPr/>
          <p:nvPr/>
        </p:nvCxnSpPr>
        <p:spPr>
          <a:xfrm>
            <a:off x="6789600" y="3433320"/>
            <a:ext cx="364320" cy="34524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76" name="Straight Arrow Connector 16"/>
          <p:cNvCxnSpPr/>
          <p:nvPr/>
        </p:nvCxnSpPr>
        <p:spPr>
          <a:xfrm flipH="1">
            <a:off x="6792120" y="3419280"/>
            <a:ext cx="345240" cy="363960"/>
          </a:xfrm>
          <a:prstGeom prst="straightConnector1">
            <a:avLst/>
          </a:prstGeom>
          <a:ln w="9360">
            <a:solidFill>
              <a:srgbClr val="94c600"/>
            </a:solidFill>
            <a:miter/>
            <a:headEnd len="med" type="arrow" w="med"/>
          </a:ln>
        </p:spPr>
      </p:cxnSp>
      <p:sp>
        <p:nvSpPr>
          <p:cNvPr id="377" name="Straight Connector 19"/>
          <p:cNvSpPr/>
          <p:nvPr/>
        </p:nvSpPr>
        <p:spPr>
          <a:xfrm>
            <a:off x="3452760" y="3632040"/>
            <a:ext cx="62388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22"/>
          <p:cNvSpPr/>
          <p:nvPr/>
        </p:nvSpPr>
        <p:spPr>
          <a:xfrm>
            <a:off x="4505400" y="3629160"/>
            <a:ext cx="62388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23"/>
          <p:cNvSpPr/>
          <p:nvPr/>
        </p:nvSpPr>
        <p:spPr>
          <a:xfrm>
            <a:off x="6130800" y="3632040"/>
            <a:ext cx="62568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24"/>
          <p:cNvSpPr/>
          <p:nvPr/>
        </p:nvSpPr>
        <p:spPr>
          <a:xfrm>
            <a:off x="7224840" y="3629160"/>
            <a:ext cx="62388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25"/>
          <p:cNvSpPr/>
          <p:nvPr/>
        </p:nvSpPr>
        <p:spPr>
          <a:xfrm>
            <a:off x="6553080" y="4795920"/>
            <a:ext cx="28908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traight Connector 28"/>
          <p:cNvSpPr/>
          <p:nvPr/>
        </p:nvSpPr>
        <p:spPr>
          <a:xfrm>
            <a:off x="7183440" y="4795920"/>
            <a:ext cx="28908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traight Connector 31"/>
          <p:cNvSpPr/>
          <p:nvPr/>
        </p:nvSpPr>
        <p:spPr>
          <a:xfrm>
            <a:off x="3909960" y="4800600"/>
            <a:ext cx="28908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32"/>
          <p:cNvSpPr/>
          <p:nvPr/>
        </p:nvSpPr>
        <p:spPr>
          <a:xfrm>
            <a:off x="4435560" y="4800600"/>
            <a:ext cx="28872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3"/>
          <p:cNvSpPr/>
          <p:nvPr/>
        </p:nvSpPr>
        <p:spPr>
          <a:xfrm>
            <a:off x="4172400" y="46274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4"/>
          <p:cNvSpPr/>
          <p:nvPr/>
        </p:nvSpPr>
        <p:spPr>
          <a:xfrm>
            <a:off x="6886080" y="46274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ume you are given a toy farm tractor at a 1/8 inch equals 1 foot scale. When you measure the toy tractor it is 2 inches from where the wheels touch the desk to the top of the cab. How tall would the actual tractor be if it is exactly proportional to the 1/8 inch scale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nswer: 16 fee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1/8 inch    2 inches</a:t>
            </a:r>
            <a:br>
              <a:rPr sz="2200"/>
            </a:b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1 foot         x fee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1/8x = 2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ivide both sides by 1/8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x = 16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1" name="Straight Connector 5"/>
          <p:cNvSpPr/>
          <p:nvPr/>
        </p:nvSpPr>
        <p:spPr>
          <a:xfrm>
            <a:off x="1828800" y="3137040"/>
            <a:ext cx="99072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7"/>
          <p:cNvSpPr/>
          <p:nvPr/>
        </p:nvSpPr>
        <p:spPr>
          <a:xfrm>
            <a:off x="3200400" y="3139920"/>
            <a:ext cx="99072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2849760" y="2954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ume the sketches of these two metal brackets are proportional to each other. What is the value of x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pSp>
        <p:nvGrpSpPr>
          <p:cNvPr id="396" name="Group 1"/>
          <p:cNvGrpSpPr/>
          <p:nvPr/>
        </p:nvGrpSpPr>
        <p:grpSpPr>
          <a:xfrm>
            <a:off x="1066680" y="3828960"/>
            <a:ext cx="3814920" cy="2216160"/>
            <a:chOff x="1066680" y="3828960"/>
            <a:chExt cx="3814920" cy="2216160"/>
          </a:xfrm>
        </p:grpSpPr>
        <p:sp>
          <p:nvSpPr>
            <p:cNvPr id="397" name="Isosceles Triangle 12"/>
            <p:cNvSpPr/>
            <p:nvPr/>
          </p:nvSpPr>
          <p:spPr>
            <a:xfrm>
              <a:off x="1066680" y="3828960"/>
              <a:ext cx="3814920" cy="1675080"/>
            </a:xfrm>
            <a:prstGeom prst="triangle">
              <a:avLst>
                <a:gd name="adj" fmla="val 25815"/>
              </a:avLst>
            </a:prstGeom>
            <a:solidFill>
              <a:srgbClr val="94c600"/>
            </a:solidFill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2"/>
            <p:cNvSpPr/>
            <p:nvPr/>
          </p:nvSpPr>
          <p:spPr>
            <a:xfrm>
              <a:off x="3303720" y="4165560"/>
              <a:ext cx="6361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2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"/>
            <p:cNvSpPr/>
            <p:nvPr/>
          </p:nvSpPr>
          <p:spPr>
            <a:xfrm>
              <a:off x="1143000" y="4354560"/>
              <a:ext cx="63612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9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"/>
            <p:cNvSpPr/>
            <p:nvPr/>
          </p:nvSpPr>
          <p:spPr>
            <a:xfrm>
              <a:off x="2457000" y="5563080"/>
              <a:ext cx="694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5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2"/>
          <p:cNvGrpSpPr/>
          <p:nvPr/>
        </p:nvGrpSpPr>
        <p:grpSpPr>
          <a:xfrm>
            <a:off x="5877000" y="4524480"/>
            <a:ext cx="2276280" cy="1488960"/>
            <a:chOff x="5877000" y="4524480"/>
            <a:chExt cx="2276280" cy="1488960"/>
          </a:xfrm>
        </p:grpSpPr>
        <p:sp>
          <p:nvSpPr>
            <p:cNvPr id="402" name="Isosceles Triangle 10"/>
            <p:cNvSpPr/>
            <p:nvPr/>
          </p:nvSpPr>
          <p:spPr>
            <a:xfrm>
              <a:off x="5960880" y="4524480"/>
              <a:ext cx="2192400" cy="1019160"/>
            </a:xfrm>
            <a:prstGeom prst="triangle">
              <a:avLst>
                <a:gd name="adj" fmla="val 25815"/>
              </a:avLst>
            </a:prstGeom>
            <a:solidFill>
              <a:srgbClr val="94c600"/>
            </a:solidFill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2"/>
            <p:cNvSpPr/>
            <p:nvPr/>
          </p:nvSpPr>
          <p:spPr>
            <a:xfrm>
              <a:off x="6770160" y="5531760"/>
              <a:ext cx="42444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2"/>
            <p:cNvSpPr/>
            <p:nvPr/>
          </p:nvSpPr>
          <p:spPr>
            <a:xfrm>
              <a:off x="7396560" y="4724640"/>
              <a:ext cx="6361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4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2"/>
            <p:cNvSpPr/>
            <p:nvPr/>
          </p:nvSpPr>
          <p:spPr>
            <a:xfrm>
              <a:off x="5877000" y="4779720"/>
              <a:ext cx="44172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3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nswer: 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ultiple options of how to solv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One is 9/3 = 15/x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762120" y="19000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Verdana"/>
              </a:rPr>
              <a:t>Fundamental Ag Mechanics students will be able to use proportions to solve agricultural mechanic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g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undamental Ag Mechanics, 3.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reate sketches of agricultural equipmen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Utilize drawing techniques to develop a simple sketc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Use scale measurement and dimension to develop simple plans and sketche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cademic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9-12.G.2.3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tudents are able to use proportions to solve problems (Application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ackground Informatio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roportions use ratios to help find the equality between two number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 proportion can be written as a/b = c/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roportions are used typically to solve for an unknown, c or 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ume a hay wagon has a floor plan with a length of 20 feet and a width of 10 feet. This wagon is sketched onto a piece of paper and when you measure the length with a ruler it is 5 inches. What would be the width of the wagon at that scale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920" y="2323800"/>
            <a:ext cx="68817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dentify what we know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25092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A 20-foot line is sketched to 5 inches on paper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We want to find how many inches a 10-foot line would be on that sketch to keep it to scal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he value we want to find is represented by an x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25092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We can set up a ratio in our a/b = c/d; it would look like this 20 feet/5 inches = 10 feet/x inches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ross multipl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20 feet          10 feet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5 inches        x inches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o get 20x = 50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Straight Connector 2"/>
          <p:cNvSpPr/>
          <p:nvPr/>
        </p:nvSpPr>
        <p:spPr>
          <a:xfrm>
            <a:off x="1447920" y="5378400"/>
            <a:ext cx="106668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5"/>
          <p:cNvSpPr/>
          <p:nvPr/>
        </p:nvSpPr>
        <p:spPr>
          <a:xfrm>
            <a:off x="2835360" y="5378400"/>
            <a:ext cx="106668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2521440" y="521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Straight Arrow Connector 6"/>
          <p:cNvCxnSpPr/>
          <p:nvPr/>
        </p:nvCxnSpPr>
        <p:spPr>
          <a:xfrm>
            <a:off x="2490840" y="5202000"/>
            <a:ext cx="364320" cy="34668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59" name="Straight Arrow Connector 11"/>
          <p:cNvCxnSpPr/>
          <p:nvPr/>
        </p:nvCxnSpPr>
        <p:spPr>
          <a:xfrm flipH="1">
            <a:off x="2494800" y="5187960"/>
            <a:ext cx="345240" cy="364320"/>
          </a:xfrm>
          <a:prstGeom prst="straightConnector1">
            <a:avLst/>
          </a:prstGeom>
          <a:ln w="9360">
            <a:solidFill>
              <a:srgbClr val="94c600"/>
            </a:solidFill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920" y="2323800"/>
            <a:ext cx="68817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Following algebraic rules, get x alon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To do that, divide both sides by 20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20x       50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20       20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his gives us: x = 2.5 inche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he width of the wagon would be 2.5 inches on the sketch to keep it to scale with the length drawn at 5 inche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Note: this is a ¼ inch = 1 foot scale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Straight Connector 9"/>
          <p:cNvSpPr/>
          <p:nvPr/>
        </p:nvSpPr>
        <p:spPr>
          <a:xfrm>
            <a:off x="1660680" y="3352680"/>
            <a:ext cx="53316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2"/>
          <p:cNvSpPr/>
          <p:nvPr/>
        </p:nvSpPr>
        <p:spPr>
          <a:xfrm>
            <a:off x="2454120" y="3352680"/>
            <a:ext cx="53352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3"/>
          <p:cNvSpPr/>
          <p:nvPr/>
        </p:nvSpPr>
        <p:spPr>
          <a:xfrm>
            <a:off x="2179800" y="3168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920" y="2323800"/>
            <a:ext cx="69580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ume a wood feed bunk is 8 feet long by 2 ½ feet wide. What would be the length and width on a ½ inch = 1 foot scale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 Matzner</cp:lastModifiedBy>
  <dcterms:modified xsi:type="dcterms:W3CDTF">2011-08-04T17:55:46Z</dcterms:modified>
  <cp:revision>116</cp:revision>
  <dc:subject/>
  <dc:title>South Dakota Ag Education</dc:title>
</cp:coreProperties>
</file>